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7C76-0B75-4520-9194-E0FDF285FE1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889D-8972-4A90-9EA2-B3879E5E56E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CE2-1D08-4287-917C-7DD94B6A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388-91F4-4238-8F0C-B91B9DAC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FAF8D-58E7-4DF2-AEA7-A767547C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2B970-80B5-46EC-ACDD-B1357209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FAE6C-2A3C-4AF3-AD08-DD7B0E5D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131E9-2B10-48AE-9A5E-9A51B05C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2C6B5-E3D7-4567-942C-18105C49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CE7FF-B771-43E0-B5F7-318F729F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3F475-2106-4447-AF36-1A42F059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0A3A4-B485-4A0F-A944-E9C54CBD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2718-8C45-49FB-8001-1BAF5649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885AD-5C0C-4AF3-AE38-48FF6C0A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975-ED4C-4894-A745-52AE3397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3FB27-95A6-462A-82A5-06DF0452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819D8-CEC4-401D-BB93-E182D8F9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AEDAA-B0E6-477C-B9B0-26C45756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DEE54-88F3-4C61-9EEF-B1F0D640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D9237-A987-4FFE-B0AD-A66F257C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619AB-87C2-41B2-92BB-2F7D37A2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F8AE5-FD36-4D7D-AE30-370E5C6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9A77D-B1C4-4B4E-A61D-BA7EEFB5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4DBF3-0C1A-4E8D-92C8-5DF642EE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07C38-33A2-4346-848C-67CD9C5C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DAE-C06D-4E78-9570-6E3B6500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9E510-37FA-422B-9BB0-424929BE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38800-5B97-4250-A7C9-613586CC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5A043-EFAF-4368-A189-4F4AB233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198A0-6690-419A-B546-7FE68AB3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5FCA5-0500-4B67-8575-466F75BA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E4E4F-92A0-4855-AEBE-9E7CA0F2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3EFD0-01EB-415C-AC74-A9201535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EBBBA-8FF6-425F-8EDF-1DBA2144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CA1E8-EEC9-4DE7-9B44-DDC1076C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1ECAB-5D14-4DC5-A49E-DB5E9827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C57B-C6FB-46D9-A2E9-AACE4297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FF52B-6265-4919-82EF-C85AA8D1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CFF23-3D99-42F3-B9F4-AA561AB8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5B3B5-BF0A-4E88-AAF5-0B2FCC93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BCB55-3B14-41CD-88F4-0F6EB451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51A7A-9F4A-473B-8420-B78D8DDD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2FABB-AA85-40C2-9DF6-6798F8F9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47637-00E9-40D0-81BE-33994ABE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42927-7870-477F-A111-9E8806BA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D70E7-6C22-4D74-9DBF-88E45346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3EEE0-4421-4F06-8780-DC76FA5F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6175-10D2-417A-911F-A419ADF3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44C02-2EEC-4BF3-8B59-B974EF61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CEDE2-EEC9-4C58-B418-01376292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99FE7-F3A9-431D-ACF6-C0FCF521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D716A-4D0A-4CF7-92B4-B1184051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27E20-186D-4B27-9E9B-2C9F7DC3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5DDF7-65B5-44C7-8434-7F717F1B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15809-DF9B-48D7-8C5F-DA7B5348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BB883-1CD1-4F28-9A9A-92952AAB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E5E59-EE04-4842-A403-B5E95D4D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3E124-8238-424E-8768-197C3967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5E16-89B9-41F0-9204-0B01BD5F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64A38-FCD4-41DC-A5C5-FC66AF41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0824C-0C5E-471B-BE5F-4DCACFCA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87A14-1856-4273-9673-4080A818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5E45A-3DE0-42D1-8F59-CA0E8632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6C2E1-C0AA-499C-8D54-0BD99C2F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3B4F4-7DFE-465A-972E-23AE340F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7CE94-A7E2-45D2-AC9C-4D741ECE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50850-9A10-4FC1-B4A1-20E3C6F8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CAA7E-5463-425B-8BB8-FEDF4C4D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1323C-EA1E-4E81-AA95-D1912AAC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F286-8017-4BEC-9A2E-892E4422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58367-4708-4FB3-A8EB-99F43818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DBF5E-DC60-4E31-8EB1-4D7866AB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E456B7-C72D-4A3E-93A7-727FC9FF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987CF-4C0C-4A45-817E-F46270DB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11C34-0F0F-4DA9-B8A0-D53AD6EF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89707-C81D-40FE-8A5F-5D0D1053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35DAA-B285-4CB9-B9C0-B264AADB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1549A-48B0-44D5-B596-EA0F629B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674BC-8852-4030-8DAD-70555F8A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57629-33AC-46DC-9E69-8121FEE5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753F-EB06-4468-8484-F987017E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03C62-F0F2-4D37-A523-FC517BD8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A522A-B3EB-46F2-B8C3-06D09E42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DD939-A427-4210-AB62-76D16B51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A27D5-4823-402D-9E6C-80D94F4C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A80F0-8261-499F-9604-F44BB06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2FA63-D929-44A2-8FC0-527A9BB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24265-998D-477C-87EF-F36DDDA6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F32519-9D59-41B9-AA2E-5C626EB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DCD5C-14E3-40EE-A889-9AAFD0B4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AD8FF-47B1-4216-8A8C-30549F45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ECBC-C0F6-4BCB-92C6-29CA9D7E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2DCBE-EB53-4EAA-BE38-BD9837F2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C0AE1-8ABE-4B75-B23D-2D44DCB6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388E1-502B-478D-B450-7107E8E7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3D7FE7-507D-4691-A2D4-622A6B23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BB48E-015F-4877-8098-F14C5090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5C8A67-147A-4327-AFD5-56377F42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26B776-0792-4474-B1E7-2C9349F0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6C04B-F6DA-41AE-A8E7-E396D95F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70E73C-8793-4278-9FCF-C1F8C084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3BF921-BE64-4F9B-9E2D-AE4DFADD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85D8-A21C-4B59-8E44-58082290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AE288C-67CB-47B2-859D-B5A69E12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9B1D5-AA27-4A2B-B383-584C63C3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62CC8-37D8-4ECC-A3BC-65385572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EF332-C4B0-4371-9345-FFEC8252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DCB176-4332-42B0-AD89-3E198DA8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07A99-6498-4677-80DF-32FA2748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49EE1C-9E03-4C58-B8C3-0CAD5360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54B67-AED1-4CF5-9C79-807BE24C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E77E7-2B6A-4AF7-8BE9-BAAFBC03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E2AB8-BA1A-40E4-A305-90134A5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916-0B8D-4B29-843F-2F13123B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A9A4-1BDE-4F83-B147-D4A46D7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D67E1-9F49-4E5C-A7BB-9561CEFC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08691-F733-4DC1-8EC9-7F939E0F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0C64EF-15C0-4050-816F-612B44FC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4E15DE-911D-4965-B111-D1BDB743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55BB29-D537-4FFE-94DE-8255104F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EDFCD-A0BB-4F86-9ECC-63C4056C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48200-4A02-4FF2-9933-10BEC427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922D8-A1F2-4315-B6C3-D24BA7B5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88CC40-E77C-42B0-8B6F-6B0B021D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EEC48-C2E4-42CC-AA7B-C63C14F6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7F30-1409-45CB-8893-70D8D648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51369-669A-4DE8-98C0-67580330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0128EB-7A53-4D19-B816-9D3A72F7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D5631-9B9D-4B51-9DE9-607368CF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76B93-A650-4E81-A9B6-DA536B6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0666A-39B7-4EBC-825D-DA936598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CBAD2-1308-4B87-B83F-59F3E5BC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E3374-C0D5-4401-8DB8-7219C911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20DFCC-81AE-4649-893C-D342A76B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E7C1D4-4ACE-4DC1-BD2A-559908EC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97AE0-78D1-4E0F-8956-77B995DB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76C9-6295-435D-A75F-D7144724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8F5A2-FAD9-4BB0-9BC6-D3478157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63B3F1-71B5-40EA-A71D-F9DDE1DB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71CF8E-6913-4530-98F6-71E08ADB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3C20D-7D6D-4A20-8A5E-CD351E91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45EC5-4AA3-4E5F-B1DA-F115681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7F68F-A884-44E0-B02D-EBE02C69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5D974-5841-432D-B009-E0137FA0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8487D-06DB-403D-802F-2B6ADBEF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17F94-9891-4CBB-818A-9D17CD86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DDFB4F-681A-4F1E-8FC9-7295DCD0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54DC-17D7-478A-B061-84764187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1ABB23-5D54-47EC-934F-A3E040AC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88EE41-ABDE-4E86-B600-E536C0D1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6BC1E7-59EC-49A1-99EE-91E42232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4D363-4A61-49BA-AA0A-EC4ED39A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EEE8C5-34D9-4B6E-B45E-009BA576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08AEE8-7321-415B-9986-510B6D48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6B9A7-3173-4D05-87CD-A45A54E2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4ABE46-831B-4208-A118-AE5AF33F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276C4-7C8E-414B-BF50-2235EB88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B8739-3F0F-4242-A6EF-51E624E3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2104-ACB7-4DA6-A878-F112F3A2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C1BD1-BFC0-4044-BF8E-3DEA9D71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432809-BF63-422B-9F98-C4189EE0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B0E46F-ABB3-44E5-BC23-EBD1D58F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892978-D0C6-4203-BA75-69858605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225A37-3F98-4327-8373-9B6BB262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D3C04C-4880-4FFE-8AA4-80273D6C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3FB76F-EC92-4B28-9352-BB0D2DD7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F5168-120C-48FF-9187-8310FDF0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44FD28-BD8B-4634-A7DE-F8A35C4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DA65E6-5273-4B2C-B9AB-2EE32BE9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22216-E97A-4AF2-B1BC-9D9E3908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4E956-C784-493C-9BDE-E5869A5D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D934F0-FCC7-407B-BDFD-868C73AF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B96B58-3256-4617-9B6C-0A1AF589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486052-D169-4C09-BCC6-87788B63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60F0C4-BC38-449B-A0EF-9F441D79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C90C37-8364-4D64-AA00-D06302A6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693931-3590-40A7-A2E2-B215945F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30176A-8DD1-4CB0-A5B8-F9C66F25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4F5D45-4C08-41BF-9433-60B747BE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BF3F34-5541-4E7F-940E-AC084D6F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D30AC-FCDB-4CCF-B694-5629E37B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B70CB5-62E0-4FA2-BE8F-5D25EFC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5E72A4-F477-4CF4-8B7C-0558E26A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3EE2E9-9105-42EF-BC13-39683E2D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AA2469-099F-4F0C-BCDD-6465AD5F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0A0A09-1163-4249-9701-CB8522A6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692E34-C1DF-44C4-BB07-FA832599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FCC49D-441E-4F6C-8AFA-BE48909A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78D96B-C6BD-4DCA-8CA7-EA1AE1AF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33E504-7DE2-4BB2-97FC-BEDDF717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2640CB-60D8-465B-8904-EBDA895A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A14D-B0C0-49D3-A952-5EC0E33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E38096-6AAF-4635-A89A-71CF679B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A15A9B-A14C-4200-897D-C55C500C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AD62C4-633C-428D-938B-DCBF5965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F1EA2D-0F4B-427B-991D-9655059E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C5ECB4-1386-4EC9-8DF1-E86BA4F5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83DE33-C3F3-489C-9850-4B4711A9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DAF077-EFDF-477D-83B3-0B2C205E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34BF-C755-4EDC-9A25-5349FC5C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BA5D-DB39-49B3-A62D-E35B0FFC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411-89C0-447F-9295-5F431E3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8D62-E7A6-4D21-97D7-B8438947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089CC-DDC8-432F-826F-A4CF9C51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57E0-C9BD-4F37-8F51-7B88DA0E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CED4-DF7E-4042-BB51-DFDA273E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2CD9-C019-4C3F-9C3C-3968C0A1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0A00-118C-45D1-A9C4-22269C7F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4733-5C44-43B5-A7F9-2F6FDD22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AABB9-CEA8-468C-87D7-192A546F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E062-C622-4887-9CC6-2E735F6E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368D-7448-45A4-80DE-E63CAE1A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EDF-5FC4-46B2-9EC8-1C46DF8E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581F5-2D63-4685-99EA-A4D6DC0D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8E2E6-4D4D-426D-A4F8-AE2F285B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866E-DAB0-42DA-B134-F76CDD20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FE848-A843-4BC1-B897-DE124835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8393-0994-43B0-87F4-2BE9B99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D551F-F7AF-4E6C-9848-A5E0290F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7ABC6-B824-4F65-B994-87B25B16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310C-C894-42DC-B3A0-95BAACF2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9B8D-44CD-4BB6-AB2E-7E1D36D0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2313-C1E8-4A71-9144-812BEE3D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F93-3BD4-4138-B148-89A54C16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FB32F-48EB-473A-91FD-F91A7341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E2E23-F0C1-4AD6-94CE-B0C44EBD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DEAE0-443D-4BE7-8CED-234CFAC2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CB91-2CE4-42F3-8987-A045BF37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9084-92AA-4E48-880E-D9CD4712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C951E-75B9-4DA8-A274-E47F9EB7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30386-B290-4DDB-A648-DF3F7EF0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6EDBF-00B9-42F3-8956-303415EB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56643-1FD0-42BB-B2C1-8BD19A3E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560BA-A399-4399-B6F0-6DAFA58F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E31-1682-4CD0-9C74-4E083680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01598-D0C0-4426-AA5D-EDE1AF50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42E83-5302-4AD1-853F-B54E8B62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EA4B8-A2CE-4A81-A1B2-7ED4D9F0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44AD-6ED4-4395-B1ED-E4CB5885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0EAAF-AC4D-44B0-9860-EB19C9F9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8117-CDB1-4D4F-9DD6-97326F62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70B02-1B89-483C-BE33-29E31E48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22C83-9EA0-42D6-B7AD-F68781D9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98189-B476-4968-9552-DD4284A2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2BA9F-107C-481D-A00B-3BF0C10C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5C3-B01D-4A39-A78E-6B40714E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5875E-A6B8-44A2-B38B-BEA3E4A9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CCB98-909B-4B7E-9940-2322746E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35484-2A1D-4BAC-8D21-7BBF625D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5FD6-2F85-46DA-9F53-A3D1FF08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773D8-16DD-4F08-8661-5AEFBC6F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1C73A-999F-4290-AA23-987303D2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3A19A-E26D-45F9-879D-DD0D536A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C6EBD-7873-4EC0-A541-5C63A7DA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37A85-DAF3-4F34-8EDA-1A3B478A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2AB1E-3ED5-418F-85C8-9929B77A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65F-4FBA-48C1-85BC-E815FEA7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C2D29-C6EA-48F7-B0A0-E0EDE867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63376-16A3-4B54-8E58-F85A1E45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5F67-C5BC-4D16-841C-58F9812A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2FDDC-FDB5-47F3-B15D-DD1B888B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0E541-CD60-43DF-98D3-DB94DD4A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9319B-0F9F-4313-A9A8-1FDE410E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D0196-7526-446E-A878-9867FDEE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36494-A13D-4C27-A212-920C92F6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C445E-CA43-4F18-9928-5E44BC38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D964F-2CA8-48C1-87AF-159CF85A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7C0-9674-4561-8579-A484E18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0393B-4758-4E98-A505-FDC9B939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5340F-8E5F-4C4A-844C-BFDB12EF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CF3F4-EC4E-49D0-B663-F5D6D69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438B2-C10A-4B73-9762-E0201612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A08EF-F38B-49F6-A936-879DDFCA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DA185-4E73-4153-8128-DD9DD2C3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283DB-3130-4439-9566-C6654753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B9CAD-3743-4D5D-8C48-DA2FE6EF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9F0FC-CC1F-4A98-8AFD-D7C55D27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8FE1B-EFD7-4F7C-970D-6DCC2228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E4FC6FE2-03BB-47D2-86F7-5E132D74BAAD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6" descr=""/>
          <p:cNvPicPr/>
          <p:nvPr/>
        </p:nvPicPr>
        <p:blipFill>
          <a:blip r:embed="rId3"/>
          <a:stretch/>
        </p:blipFill>
        <p:spPr>
          <a:xfrm>
            <a:off x="-700200" y="-460440"/>
            <a:ext cx="3386160" cy="3240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FAEEC5B9-A603-4DAD-B031-B065FACEA530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图片 6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16192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B4E97194-22AA-40D3-B805-282CFE7541AC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文本框 6"/>
          <p:cNvSpPr/>
          <p:nvPr/>
        </p:nvSpPr>
        <p:spPr>
          <a:xfrm>
            <a:off x="371880" y="5646600"/>
            <a:ext cx="42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文本框 7"/>
          <p:cNvSpPr/>
          <p:nvPr/>
        </p:nvSpPr>
        <p:spPr>
          <a:xfrm>
            <a:off x="368640" y="5154480"/>
            <a:ext cx="39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文本框 8"/>
          <p:cNvSpPr/>
          <p:nvPr/>
        </p:nvSpPr>
        <p:spPr>
          <a:xfrm>
            <a:off x="364320" y="4606920"/>
            <a:ext cx="40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文本框 9"/>
          <p:cNvSpPr/>
          <p:nvPr/>
        </p:nvSpPr>
        <p:spPr>
          <a:xfrm>
            <a:off x="380160" y="4044960"/>
            <a:ext cx="40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图片 6" descr=""/>
          <p:cNvPicPr/>
          <p:nvPr/>
        </p:nvPicPr>
        <p:blipFill>
          <a:blip r:embed="rId3"/>
          <a:stretch/>
        </p:blipFill>
        <p:spPr>
          <a:xfrm>
            <a:off x="3489480" y="2658960"/>
            <a:ext cx="2165040" cy="16192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4D2E5514-CA19-47E2-BC16-2AFF944E53A5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CC47B64D-E0AA-4D4A-B684-050D5AA6E379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6" descr=""/>
          <p:cNvPicPr/>
          <p:nvPr/>
        </p:nvPicPr>
        <p:blipFill>
          <a:blip r:embed="rId3"/>
          <a:stretch/>
        </p:blipFill>
        <p:spPr>
          <a:xfrm rot="21000000">
            <a:off x="6208560" y="5915160"/>
            <a:ext cx="3021120" cy="90000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7" descr=""/>
          <p:cNvPicPr/>
          <p:nvPr/>
        </p:nvPicPr>
        <p:blipFill>
          <a:blip r:embed="rId4"/>
          <a:stretch/>
        </p:blipFill>
        <p:spPr>
          <a:xfrm rot="1080000">
            <a:off x="274320" y="4489560"/>
            <a:ext cx="2452680" cy="234000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8" descr=""/>
          <p:cNvPicPr/>
          <p:nvPr/>
        </p:nvPicPr>
        <p:blipFill>
          <a:blip r:embed="rId5"/>
          <a:stretch/>
        </p:blipFill>
        <p:spPr>
          <a:xfrm rot="1920000">
            <a:off x="7075440" y="-115560"/>
            <a:ext cx="2373480" cy="197964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9" descr=""/>
          <p:cNvPicPr/>
          <p:nvPr/>
        </p:nvPicPr>
        <p:blipFill>
          <a:blip r:embed="rId6"/>
          <a:stretch/>
        </p:blipFill>
        <p:spPr>
          <a:xfrm rot="20340000">
            <a:off x="-225360" y="-52560"/>
            <a:ext cx="1708200" cy="216072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A9E8-0419-480E-8A89-26DBF17209A5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6" descr=""/>
          <p:cNvPicPr/>
          <p:nvPr/>
        </p:nvPicPr>
        <p:blipFill>
          <a:blip r:embed="rId3"/>
          <a:stretch/>
        </p:blipFill>
        <p:spPr>
          <a:xfrm rot="21000000">
            <a:off x="6208560" y="5915160"/>
            <a:ext cx="3021120" cy="900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C49268B6-34BC-480C-9EEF-DCF26EF88C3E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图片 7" descr=""/>
          <p:cNvPicPr/>
          <p:nvPr/>
        </p:nvPicPr>
        <p:blipFill>
          <a:blip r:embed="rId3"/>
          <a:stretch/>
        </p:blipFill>
        <p:spPr>
          <a:xfrm rot="1080000">
            <a:off x="274320" y="4489560"/>
            <a:ext cx="2452680" cy="234000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052BB112-7020-4FDE-ABD9-A99E55BD44F3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图片 8" descr=""/>
          <p:cNvPicPr/>
          <p:nvPr/>
        </p:nvPicPr>
        <p:blipFill>
          <a:blip r:embed="rId3"/>
          <a:stretch/>
        </p:blipFill>
        <p:spPr>
          <a:xfrm rot="1920000">
            <a:off x="7075440" y="-115560"/>
            <a:ext cx="2373480" cy="19796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26F23BAD-BC39-4281-BC6A-026466B6187C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图片 9" descr=""/>
          <p:cNvPicPr/>
          <p:nvPr/>
        </p:nvPicPr>
        <p:blipFill>
          <a:blip r:embed="rId3"/>
          <a:stretch/>
        </p:blipFill>
        <p:spPr>
          <a:xfrm rot="20340000">
            <a:off x="-225360" y="-52560"/>
            <a:ext cx="1708200" cy="216072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4D37A15B-4F95-4449-AD03-15CD19C0BF2F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6" descr=""/>
          <p:cNvPicPr/>
          <p:nvPr/>
        </p:nvPicPr>
        <p:blipFill>
          <a:blip r:embed="rId3"/>
          <a:stretch/>
        </p:blipFill>
        <p:spPr>
          <a:xfrm>
            <a:off x="-290520" y="4500720"/>
            <a:ext cx="2568600" cy="3240000"/>
          </a:xfrm>
          <a:prstGeom prst="rect">
            <a:avLst/>
          </a:prstGeom>
          <a:ln w="0">
            <a:noFill/>
          </a:ln>
        </p:spPr>
      </p:pic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16F14138-1BAC-4311-9EE5-D318BA035802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60241508-76CD-496B-B55A-4741B9324E4A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图片 6" descr=""/>
          <p:cNvPicPr/>
          <p:nvPr/>
        </p:nvPicPr>
        <p:blipFill>
          <a:blip r:embed="rId3"/>
          <a:stretch/>
        </p:blipFill>
        <p:spPr>
          <a:xfrm>
            <a:off x="6594480" y="4525920"/>
            <a:ext cx="3227400" cy="324000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A9ED91F7-DD14-4FEA-A386-3FA3E56104B0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图片 6" descr=""/>
          <p:cNvPicPr/>
          <p:nvPr/>
        </p:nvPicPr>
        <p:blipFill>
          <a:blip r:embed="rId3"/>
          <a:stretch/>
        </p:blipFill>
        <p:spPr>
          <a:xfrm>
            <a:off x="-712800" y="-471600"/>
            <a:ext cx="3386160" cy="3240360"/>
          </a:xfrm>
          <a:prstGeom prst="rect">
            <a:avLst/>
          </a:prstGeom>
          <a:ln w="0">
            <a:noFill/>
          </a:ln>
        </p:spPr>
      </p:pic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A103541E-0DFA-4696-AE88-41C26305334C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图片 6" descr=""/>
          <p:cNvPicPr/>
          <p:nvPr/>
        </p:nvPicPr>
        <p:blipFill>
          <a:blip r:embed="rId3"/>
          <a:stretch/>
        </p:blipFill>
        <p:spPr>
          <a:xfrm>
            <a:off x="7362720" y="57240"/>
            <a:ext cx="1714680" cy="161928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B6F0DC62-5620-4A8B-972A-7595C0C6DD21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文本框 6"/>
          <p:cNvSpPr/>
          <p:nvPr/>
        </p:nvSpPr>
        <p:spPr>
          <a:xfrm>
            <a:off x="371880" y="5646600"/>
            <a:ext cx="42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文本框 7"/>
          <p:cNvSpPr/>
          <p:nvPr/>
        </p:nvSpPr>
        <p:spPr>
          <a:xfrm>
            <a:off x="368640" y="5154480"/>
            <a:ext cx="390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文本框 8"/>
          <p:cNvSpPr/>
          <p:nvPr/>
        </p:nvSpPr>
        <p:spPr>
          <a:xfrm>
            <a:off x="364320" y="4606920"/>
            <a:ext cx="40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文本框 9"/>
          <p:cNvSpPr/>
          <p:nvPr/>
        </p:nvSpPr>
        <p:spPr>
          <a:xfrm>
            <a:off x="380160" y="4044960"/>
            <a:ext cx="40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图片 6" descr=""/>
          <p:cNvPicPr/>
          <p:nvPr/>
        </p:nvPicPr>
        <p:blipFill>
          <a:blip r:embed="rId3"/>
          <a:stretch/>
        </p:blipFill>
        <p:spPr>
          <a:xfrm>
            <a:off x="3489480" y="2495520"/>
            <a:ext cx="2165040" cy="1620720"/>
          </a:xfrm>
          <a:prstGeom prst="rect">
            <a:avLst/>
          </a:prstGeom>
          <a:ln w="0">
            <a:noFill/>
          </a:ln>
        </p:spPr>
      </p:pic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fld id="{0DC144BD-A59E-41F0-82F4-37AA00E2BF7B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3"/>
          <a:stretch/>
        </p:blipFill>
        <p:spPr>
          <a:xfrm rot="21000000">
            <a:off x="6273360" y="5907240"/>
            <a:ext cx="3021120" cy="8982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"/>
          <p:cNvPicPr/>
          <p:nvPr/>
        </p:nvPicPr>
        <p:blipFill>
          <a:blip r:embed="rId4"/>
          <a:stretch/>
        </p:blipFill>
        <p:spPr>
          <a:xfrm rot="1081800">
            <a:off x="172800" y="4552560"/>
            <a:ext cx="2450880" cy="2340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" descr=""/>
          <p:cNvPicPr/>
          <p:nvPr/>
        </p:nvPicPr>
        <p:blipFill>
          <a:blip r:embed="rId5"/>
          <a:stretch/>
        </p:blipFill>
        <p:spPr>
          <a:xfrm rot="1917600">
            <a:off x="7127640" y="-137880"/>
            <a:ext cx="2360520" cy="1979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" descr=""/>
          <p:cNvPicPr/>
          <p:nvPr/>
        </p:nvPicPr>
        <p:blipFill>
          <a:blip r:embed="rId6"/>
          <a:stretch/>
        </p:blipFill>
        <p:spPr>
          <a:xfrm rot="20353800">
            <a:off x="-182160" y="-76320"/>
            <a:ext cx="1708200" cy="2160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22A-318F-468B-8D78-217D97CBAB7F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6" descr=""/>
          <p:cNvPicPr/>
          <p:nvPr/>
        </p:nvPicPr>
        <p:blipFill>
          <a:blip r:embed="rId3"/>
          <a:stretch/>
        </p:blipFill>
        <p:spPr>
          <a:xfrm rot="21000000">
            <a:off x="6273360" y="5907240"/>
            <a:ext cx="3021120" cy="898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AABADFC6-A403-42F1-9F5C-B67142F4C6FA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7" descr=""/>
          <p:cNvPicPr/>
          <p:nvPr/>
        </p:nvPicPr>
        <p:blipFill>
          <a:blip r:embed="rId3"/>
          <a:stretch/>
        </p:blipFill>
        <p:spPr>
          <a:xfrm rot="1081800">
            <a:off x="172800" y="4552560"/>
            <a:ext cx="2450880" cy="2340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0BB40637-3E1D-4A8E-A39E-CE1FAF7CEDDD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8" descr=""/>
          <p:cNvPicPr/>
          <p:nvPr/>
        </p:nvPicPr>
        <p:blipFill>
          <a:blip r:embed="rId3"/>
          <a:stretch/>
        </p:blipFill>
        <p:spPr>
          <a:xfrm rot="1917600">
            <a:off x="7127640" y="-137880"/>
            <a:ext cx="2360520" cy="19796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23CB6FA3-02C4-4DC0-892F-23F1D97A9963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9" descr=""/>
          <p:cNvPicPr/>
          <p:nvPr/>
        </p:nvPicPr>
        <p:blipFill>
          <a:blip r:embed="rId3"/>
          <a:stretch/>
        </p:blipFill>
        <p:spPr>
          <a:xfrm rot="20353800">
            <a:off x="-182160" y="-76320"/>
            <a:ext cx="1708200" cy="2160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67464A36-7DFE-4AA3-BDC6-561D82F7C6B2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6" descr=""/>
          <p:cNvPicPr/>
          <p:nvPr/>
        </p:nvPicPr>
        <p:blipFill>
          <a:blip r:embed="rId3"/>
          <a:stretch/>
        </p:blipFill>
        <p:spPr>
          <a:xfrm>
            <a:off x="-291960" y="4565520"/>
            <a:ext cx="2568600" cy="32385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6DFFC35C-9C2A-40BE-9763-738F62430AB7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6" descr=""/>
          <p:cNvPicPr/>
          <p:nvPr/>
        </p:nvPicPr>
        <p:blipFill>
          <a:blip r:embed="rId3"/>
          <a:stretch/>
        </p:blipFill>
        <p:spPr>
          <a:xfrm>
            <a:off x="6622920" y="4525920"/>
            <a:ext cx="3227400" cy="3240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57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29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01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736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7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F5042129-A7E0-4896-B359-68883E1FC2A4}" type="slidenum"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数学基础训练部分代表性题目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数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示例（一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/>
          </p:nvPr>
        </p:nvSpPr>
        <p:spPr>
          <a:xfrm>
            <a:off x="428760" y="254160"/>
            <a:ext cx="50004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，随机闭合开关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中的两个，则能让两盏灯泡同时发光的概率为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3" name="文本占位符 7" descr=""/>
          <p:cNvPicPr/>
          <p:nvPr/>
        </p:nvPicPr>
        <p:blipFill>
          <a:blip r:embed="rId1"/>
          <a:stretch/>
        </p:blipFill>
        <p:spPr>
          <a:xfrm>
            <a:off x="5370480" y="3352680"/>
            <a:ext cx="3456000" cy="2872080"/>
          </a:xfrm>
          <a:prstGeom prst="rect">
            <a:avLst/>
          </a:prstGeom>
          <a:ln w="0">
            <a:noFill/>
          </a:ln>
        </p:spPr>
      </p:pic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767880" y="5632200"/>
            <a:ext cx="46609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/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title"/>
          </p:nvPr>
        </p:nvSpPr>
        <p:spPr>
          <a:xfrm>
            <a:off x="444600" y="6202080"/>
            <a:ext cx="83469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767880" y="5154120"/>
            <a:ext cx="46609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767880" y="4592160"/>
            <a:ext cx="46609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/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767880" y="4030200"/>
            <a:ext cx="466092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/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9" name="图片 16" descr=""/>
          <p:cNvPicPr/>
          <p:nvPr/>
        </p:nvPicPr>
        <p:blipFill>
          <a:blip r:embed="rId2"/>
          <a:stretch/>
        </p:blipFill>
        <p:spPr>
          <a:xfrm>
            <a:off x="4513320" y="184320"/>
            <a:ext cx="4630680" cy="3166920"/>
          </a:xfrm>
          <a:prstGeom prst="rect">
            <a:avLst/>
          </a:prstGeom>
          <a:ln w="0">
            <a:noFill/>
          </a:ln>
        </p:spPr>
      </p:pic>
      <p:sp>
        <p:nvSpPr>
          <p:cNvPr id="1100" name="文本框 17"/>
          <p:cNvSpPr/>
          <p:nvPr/>
        </p:nvSpPr>
        <p:spPr>
          <a:xfrm>
            <a:off x="5193360" y="125244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文本框 18"/>
          <p:cNvSpPr/>
          <p:nvPr/>
        </p:nvSpPr>
        <p:spPr>
          <a:xfrm>
            <a:off x="6756840" y="7920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文本框 19"/>
          <p:cNvSpPr/>
          <p:nvPr/>
        </p:nvSpPr>
        <p:spPr>
          <a:xfrm>
            <a:off x="6382440" y="162720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文本框 20"/>
          <p:cNvSpPr/>
          <p:nvPr/>
        </p:nvSpPr>
        <p:spPr>
          <a:xfrm>
            <a:off x="7169400" y="1693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文本框 21"/>
          <p:cNvSpPr/>
          <p:nvPr/>
        </p:nvSpPr>
        <p:spPr>
          <a:xfrm>
            <a:off x="8161560" y="192564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/>
          </p:nvPr>
        </p:nvSpPr>
        <p:spPr>
          <a:xfrm>
            <a:off x="428400" y="253800"/>
            <a:ext cx="8372520" cy="61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本示例已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技术数据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编辑总时间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3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本示例对应：数学手动输入题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抄题模板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编辑日期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14-10-1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文本占位符 1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5126040" cy="604188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5429160" y="254160"/>
            <a:ext cx="3362400" cy="59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解一元二次方程常用的方法有公式法、配方法、因式分解法等。本例既可用公式法，也可以用配方法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本题选自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54/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1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编辑使用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3min 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352440" y="266400"/>
            <a:ext cx="55036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，四边形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BC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菱形，对角线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相交于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⊥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连接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H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求证：∠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∠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C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856120" y="3200400"/>
            <a:ext cx="294336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根据菱形的对角线互相平分可得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D=OB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再根据直角三角形斜边上的中线等于斜边的一半可得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H=OB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∠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HB= ∠OBH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∠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BH= ∠ODC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，然后再根据等角的余角相等即可证明结论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23/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][11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菱形 8"/>
          <p:cNvSpPr/>
          <p:nvPr/>
        </p:nvSpPr>
        <p:spPr>
          <a:xfrm rot="20837400">
            <a:off x="5856120" y="952560"/>
            <a:ext cx="3197520" cy="1365120"/>
          </a:xfrm>
          <a:prstGeom prst="diamond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直接连接符 10"/>
          <p:cNvSpPr/>
          <p:nvPr/>
        </p:nvSpPr>
        <p:spPr>
          <a:xfrm>
            <a:off x="7304040" y="969840"/>
            <a:ext cx="300240" cy="13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直接连接符 12"/>
          <p:cNvSpPr/>
          <p:nvPr/>
        </p:nvSpPr>
        <p:spPr>
          <a:xfrm flipV="1">
            <a:off x="5894280" y="1284120"/>
            <a:ext cx="3121200" cy="703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直接连接符 14"/>
          <p:cNvSpPr/>
          <p:nvPr/>
        </p:nvSpPr>
        <p:spPr>
          <a:xfrm flipH="1">
            <a:off x="7005240" y="969840"/>
            <a:ext cx="29844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直接连接符 16"/>
          <p:cNvSpPr/>
          <p:nvPr/>
        </p:nvSpPr>
        <p:spPr>
          <a:xfrm flipH="1">
            <a:off x="7005600" y="1635120"/>
            <a:ext cx="450720" cy="554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文本框 18"/>
          <p:cNvSpPr/>
          <p:nvPr/>
        </p:nvSpPr>
        <p:spPr>
          <a:xfrm>
            <a:off x="5525280" y="1798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文本框 19"/>
          <p:cNvSpPr/>
          <p:nvPr/>
        </p:nvSpPr>
        <p:spPr>
          <a:xfrm>
            <a:off x="7457400" y="2301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文本框 20"/>
          <p:cNvSpPr/>
          <p:nvPr/>
        </p:nvSpPr>
        <p:spPr>
          <a:xfrm>
            <a:off x="8717400" y="72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文本框 21"/>
          <p:cNvSpPr/>
          <p:nvPr/>
        </p:nvSpPr>
        <p:spPr>
          <a:xfrm>
            <a:off x="7082280" y="45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文本框 22"/>
          <p:cNvSpPr/>
          <p:nvPr/>
        </p:nvSpPr>
        <p:spPr>
          <a:xfrm>
            <a:off x="7426440" y="116676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文本框 23"/>
          <p:cNvSpPr/>
          <p:nvPr/>
        </p:nvSpPr>
        <p:spPr>
          <a:xfrm>
            <a:off x="6729840" y="215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文本占位符 6" descr=""/>
          <p:cNvPicPr/>
          <p:nvPr/>
        </p:nvPicPr>
        <p:blipFill>
          <a:blip r:embed="rId1"/>
          <a:stretch/>
        </p:blipFill>
        <p:spPr>
          <a:xfrm>
            <a:off x="334800" y="158760"/>
            <a:ext cx="4907160" cy="602928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解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菱形 9"/>
          <p:cNvSpPr/>
          <p:nvPr/>
        </p:nvSpPr>
        <p:spPr>
          <a:xfrm rot="20837400">
            <a:off x="5481720" y="952560"/>
            <a:ext cx="3198600" cy="1365120"/>
          </a:xfrm>
          <a:prstGeom prst="diamond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直接连接符 10"/>
          <p:cNvSpPr/>
          <p:nvPr/>
        </p:nvSpPr>
        <p:spPr>
          <a:xfrm>
            <a:off x="6931080" y="969840"/>
            <a:ext cx="299880" cy="1332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直接连接符 11"/>
          <p:cNvSpPr/>
          <p:nvPr/>
        </p:nvSpPr>
        <p:spPr>
          <a:xfrm flipV="1">
            <a:off x="5521320" y="1284120"/>
            <a:ext cx="3119400" cy="703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直接连接符 12"/>
          <p:cNvSpPr/>
          <p:nvPr/>
        </p:nvSpPr>
        <p:spPr>
          <a:xfrm flipH="1">
            <a:off x="6632280" y="969840"/>
            <a:ext cx="298440" cy="121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直接连接符 13"/>
          <p:cNvSpPr/>
          <p:nvPr/>
        </p:nvSpPr>
        <p:spPr>
          <a:xfrm flipH="1">
            <a:off x="6632640" y="1635120"/>
            <a:ext cx="450720" cy="554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文本框 14"/>
          <p:cNvSpPr/>
          <p:nvPr/>
        </p:nvSpPr>
        <p:spPr>
          <a:xfrm>
            <a:off x="5152320" y="1798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文本框 15"/>
          <p:cNvSpPr/>
          <p:nvPr/>
        </p:nvSpPr>
        <p:spPr>
          <a:xfrm>
            <a:off x="7084440" y="2301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文本框 16"/>
          <p:cNvSpPr/>
          <p:nvPr/>
        </p:nvSpPr>
        <p:spPr>
          <a:xfrm>
            <a:off x="8344080" y="72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文本框 17"/>
          <p:cNvSpPr/>
          <p:nvPr/>
        </p:nvSpPr>
        <p:spPr>
          <a:xfrm>
            <a:off x="6709320" y="45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文本框 18"/>
          <p:cNvSpPr/>
          <p:nvPr/>
        </p:nvSpPr>
        <p:spPr>
          <a:xfrm>
            <a:off x="7053120" y="116676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文本框 19"/>
          <p:cNvSpPr/>
          <p:nvPr/>
        </p:nvSpPr>
        <p:spPr>
          <a:xfrm>
            <a:off x="6356880" y="2152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454720" y="3093840"/>
            <a:ext cx="2806560" cy="30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8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/>
          </p:nvPr>
        </p:nvSpPr>
        <p:spPr>
          <a:xfrm>
            <a:off x="358560" y="167760"/>
            <a:ext cx="552924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图，已知四边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C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菱形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(0,4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(-3,0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，则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坐标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888160" y="168120"/>
            <a:ext cx="28065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2/4][6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20" name="直接箭头连接符 10"/>
          <p:cNvCxnSpPr/>
          <p:nvPr/>
        </p:nvCxnSpPr>
        <p:spPr>
          <a:xfrm flipV="1">
            <a:off x="7700760" y="3814200"/>
            <a:ext cx="1080" cy="23706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21" name="直接箭头连接符 11"/>
          <p:cNvCxnSpPr/>
          <p:nvPr/>
        </p:nvCxnSpPr>
        <p:spPr>
          <a:xfrm flipV="1">
            <a:off x="6052680" y="4828320"/>
            <a:ext cx="273924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22" name="菱形 14"/>
          <p:cNvSpPr/>
          <p:nvPr/>
        </p:nvSpPr>
        <p:spPr>
          <a:xfrm rot="6580800">
            <a:off x="6406920" y="4606560"/>
            <a:ext cx="1927080" cy="708120"/>
          </a:xfrm>
          <a:prstGeom prst="diamond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文本框 15"/>
          <p:cNvSpPr/>
          <p:nvPr/>
        </p:nvSpPr>
        <p:spPr>
          <a:xfrm>
            <a:off x="7690680" y="3840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文本框 16"/>
          <p:cNvSpPr/>
          <p:nvPr/>
        </p:nvSpPr>
        <p:spPr>
          <a:xfrm>
            <a:off x="6755760" y="4367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文本框 17"/>
          <p:cNvSpPr/>
          <p:nvPr/>
        </p:nvSpPr>
        <p:spPr>
          <a:xfrm>
            <a:off x="6708960" y="585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文本框 18"/>
          <p:cNvSpPr/>
          <p:nvPr/>
        </p:nvSpPr>
        <p:spPr>
          <a:xfrm>
            <a:off x="7692120" y="489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文本框 19"/>
          <p:cNvSpPr/>
          <p:nvPr/>
        </p:nvSpPr>
        <p:spPr>
          <a:xfrm>
            <a:off x="7333200" y="3564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文本框 20"/>
          <p:cNvSpPr/>
          <p:nvPr/>
        </p:nvSpPr>
        <p:spPr>
          <a:xfrm>
            <a:off x="8517600" y="4829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文本框 21"/>
          <p:cNvSpPr/>
          <p:nvPr/>
        </p:nvSpPr>
        <p:spPr>
          <a:xfrm>
            <a:off x="7727040" y="4344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352440" y="266400"/>
            <a:ext cx="55036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画出如图所示几何体的三视图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856120" y="3200400"/>
            <a:ext cx="294336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--][3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立方体 9"/>
          <p:cNvSpPr/>
          <p:nvPr/>
        </p:nvSpPr>
        <p:spPr>
          <a:xfrm>
            <a:off x="6478560" y="901800"/>
            <a:ext cx="862200" cy="8636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立方体 10"/>
          <p:cNvSpPr/>
          <p:nvPr/>
        </p:nvSpPr>
        <p:spPr>
          <a:xfrm>
            <a:off x="6478560" y="1542960"/>
            <a:ext cx="862200" cy="8636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立方体 11"/>
          <p:cNvSpPr/>
          <p:nvPr/>
        </p:nvSpPr>
        <p:spPr>
          <a:xfrm>
            <a:off x="7126200" y="1542960"/>
            <a:ext cx="863640" cy="8636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文本占位符 6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5200560" cy="6029280"/>
          </a:xfrm>
          <a:prstGeom prst="rect">
            <a:avLst/>
          </a:prstGeom>
          <a:ln w="0">
            <a:noFill/>
          </a:ln>
        </p:spPr>
      </p:pic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5338440" y="3474720"/>
            <a:ext cx="346068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76/6][7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等腰三角形 9"/>
          <p:cNvSpPr/>
          <p:nvPr/>
        </p:nvSpPr>
        <p:spPr>
          <a:xfrm>
            <a:off x="6040440" y="412920"/>
            <a:ext cx="2395440" cy="2214360"/>
          </a:xfrm>
          <a:prstGeom prst="triangle">
            <a:avLst>
              <a:gd name="adj" fmla="val 7578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直接连接符 11"/>
          <p:cNvSpPr/>
          <p:nvPr/>
        </p:nvSpPr>
        <p:spPr>
          <a:xfrm flipH="1">
            <a:off x="7264440" y="412920"/>
            <a:ext cx="590400" cy="221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文本框 13"/>
          <p:cNvSpPr/>
          <p:nvPr/>
        </p:nvSpPr>
        <p:spPr>
          <a:xfrm>
            <a:off x="7858080" y="36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文本框 14"/>
          <p:cNvSpPr/>
          <p:nvPr/>
        </p:nvSpPr>
        <p:spPr>
          <a:xfrm>
            <a:off x="5745960" y="2165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文本框 15"/>
          <p:cNvSpPr/>
          <p:nvPr/>
        </p:nvSpPr>
        <p:spPr>
          <a:xfrm>
            <a:off x="8438760" y="2165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文本框 16"/>
          <p:cNvSpPr/>
          <p:nvPr/>
        </p:nvSpPr>
        <p:spPr>
          <a:xfrm>
            <a:off x="7080840" y="2589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文本占位符 6" descr=""/>
          <p:cNvPicPr/>
          <p:nvPr/>
        </p:nvPicPr>
        <p:blipFill>
          <a:blip r:embed="rId1"/>
          <a:stretch/>
        </p:blipFill>
        <p:spPr>
          <a:xfrm>
            <a:off x="371520" y="274680"/>
            <a:ext cx="5743440" cy="2962080"/>
          </a:xfrm>
          <a:prstGeom prst="rect">
            <a:avLst/>
          </a:prstGeom>
          <a:ln w="0">
            <a:noFill/>
          </a:ln>
        </p:spPr>
      </p:pic>
      <p:pic>
        <p:nvPicPr>
          <p:cNvPr id="1046" name="文本占位符 7" descr=""/>
          <p:cNvPicPr/>
          <p:nvPr/>
        </p:nvPicPr>
        <p:blipFill>
          <a:blip r:embed="rId2"/>
          <a:stretch/>
        </p:blipFill>
        <p:spPr>
          <a:xfrm>
            <a:off x="371520" y="3333600"/>
            <a:ext cx="5743440" cy="2908440"/>
          </a:xfrm>
          <a:prstGeom prst="rect">
            <a:avLst/>
          </a:prstGeom>
          <a:ln w="0">
            <a:noFill/>
          </a:ln>
        </p:spPr>
      </p:pic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文本占位符 8"/>
          <p:cNvSpPr/>
          <p:nvPr/>
        </p:nvSpPr>
        <p:spPr>
          <a:xfrm>
            <a:off x="6186600" y="338040"/>
            <a:ext cx="26715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70/</a:t>
            </a: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例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2][3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文本占位符 8"/>
          <p:cNvSpPr/>
          <p:nvPr/>
        </p:nvSpPr>
        <p:spPr>
          <a:xfrm>
            <a:off x="6186600" y="3468600"/>
            <a:ext cx="267156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72/7][3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352080" y="266400"/>
            <a:ext cx="498636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下各图放置的小正方形的边长都相同，分别以小正方形的顶点为顶点画三角形，则与图中△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相似的三角形图形为（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338440" y="3474720"/>
            <a:ext cx="346068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[P81/2][17min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title"/>
          </p:nvPr>
        </p:nvSpPr>
        <p:spPr>
          <a:xfrm>
            <a:off x="428760" y="6184440"/>
            <a:ext cx="83628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矩形 10"/>
          <p:cNvSpPr/>
          <p:nvPr/>
        </p:nvSpPr>
        <p:spPr>
          <a:xfrm>
            <a:off x="5773680" y="95580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矩形 11"/>
          <p:cNvSpPr/>
          <p:nvPr/>
        </p:nvSpPr>
        <p:spPr>
          <a:xfrm>
            <a:off x="6492960" y="95580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矩形 12"/>
          <p:cNvSpPr/>
          <p:nvPr/>
        </p:nvSpPr>
        <p:spPr>
          <a:xfrm>
            <a:off x="7215120" y="955800"/>
            <a:ext cx="7225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任意多边形 14"/>
          <p:cNvSpPr/>
          <p:nvPr/>
        </p:nvSpPr>
        <p:spPr>
          <a:xfrm>
            <a:off x="5824440" y="981000"/>
            <a:ext cx="2086200" cy="695520"/>
          </a:xfrm>
          <a:custGeom>
            <a:avLst/>
            <a:gdLst/>
            <a:ahLst/>
            <a:rect l="l" t="t" r="r" b="b"/>
            <a:pathLst>
              <a:path w="2086377" h="695458">
                <a:moveTo>
                  <a:pt x="0" y="695458"/>
                </a:moveTo>
                <a:lnTo>
                  <a:pt x="1390917" y="695458"/>
                </a:lnTo>
                <a:lnTo>
                  <a:pt x="2086377" y="0"/>
                </a:lnTo>
                <a:lnTo>
                  <a:pt x="0" y="69545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文本框 16"/>
          <p:cNvSpPr/>
          <p:nvPr/>
        </p:nvSpPr>
        <p:spPr>
          <a:xfrm>
            <a:off x="7939800" y="519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文本框 17"/>
          <p:cNvSpPr/>
          <p:nvPr/>
        </p:nvSpPr>
        <p:spPr>
          <a:xfrm>
            <a:off x="5403240" y="1446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文本框 18"/>
          <p:cNvSpPr/>
          <p:nvPr/>
        </p:nvSpPr>
        <p:spPr>
          <a:xfrm>
            <a:off x="7004520" y="1639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矩形 19"/>
          <p:cNvSpPr/>
          <p:nvPr/>
        </p:nvSpPr>
        <p:spPr>
          <a:xfrm>
            <a:off x="692280" y="2602080"/>
            <a:ext cx="722160" cy="72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矩形 20"/>
          <p:cNvSpPr/>
          <p:nvPr/>
        </p:nvSpPr>
        <p:spPr>
          <a:xfrm>
            <a:off x="1413000" y="2602080"/>
            <a:ext cx="720720" cy="72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任意多边形 22"/>
          <p:cNvSpPr/>
          <p:nvPr/>
        </p:nvSpPr>
        <p:spPr>
          <a:xfrm>
            <a:off x="744480" y="2614680"/>
            <a:ext cx="1352520" cy="709560"/>
          </a:xfrm>
          <a:custGeom>
            <a:avLst/>
            <a:gdLst/>
            <a:ahLst/>
            <a:rect l="l" t="t" r="r" b="b"/>
            <a:pathLst>
              <a:path w="1352281" h="708337">
                <a:moveTo>
                  <a:pt x="0" y="708337"/>
                </a:moveTo>
                <a:lnTo>
                  <a:pt x="669700" y="708337"/>
                </a:lnTo>
                <a:lnTo>
                  <a:pt x="1352281" y="0"/>
                </a:lnTo>
                <a:lnTo>
                  <a:pt x="0" y="708337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文本框 23"/>
          <p:cNvSpPr/>
          <p:nvPr/>
        </p:nvSpPr>
        <p:spPr>
          <a:xfrm>
            <a:off x="2137680" y="2344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文本框 24"/>
          <p:cNvSpPr/>
          <p:nvPr/>
        </p:nvSpPr>
        <p:spPr>
          <a:xfrm>
            <a:off x="322200" y="3092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文本框 25"/>
          <p:cNvSpPr/>
          <p:nvPr/>
        </p:nvSpPr>
        <p:spPr>
          <a:xfrm>
            <a:off x="1248120" y="323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矩形 27"/>
          <p:cNvSpPr/>
          <p:nvPr/>
        </p:nvSpPr>
        <p:spPr>
          <a:xfrm>
            <a:off x="2630520" y="258912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矩形 28"/>
          <p:cNvSpPr/>
          <p:nvPr/>
        </p:nvSpPr>
        <p:spPr>
          <a:xfrm>
            <a:off x="3349800" y="258912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矩形 29"/>
          <p:cNvSpPr/>
          <p:nvPr/>
        </p:nvSpPr>
        <p:spPr>
          <a:xfrm>
            <a:off x="4071960" y="2589120"/>
            <a:ext cx="7221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任意多边形 30"/>
          <p:cNvSpPr/>
          <p:nvPr/>
        </p:nvSpPr>
        <p:spPr>
          <a:xfrm>
            <a:off x="2681280" y="2602080"/>
            <a:ext cx="2112840" cy="707760"/>
          </a:xfrm>
          <a:custGeom>
            <a:avLst/>
            <a:gdLst/>
            <a:ahLst/>
            <a:rect l="l" t="t" r="r" b="b"/>
            <a:pathLst>
              <a:path w="2112134" h="708337">
                <a:moveTo>
                  <a:pt x="0" y="708337"/>
                </a:moveTo>
                <a:lnTo>
                  <a:pt x="2112134" y="708337"/>
                </a:lnTo>
                <a:lnTo>
                  <a:pt x="1378039" y="0"/>
                </a:lnTo>
                <a:lnTo>
                  <a:pt x="0" y="708337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文本框 31"/>
          <p:cNvSpPr/>
          <p:nvPr/>
        </p:nvSpPr>
        <p:spPr>
          <a:xfrm>
            <a:off x="2283840" y="3144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文本框 32"/>
          <p:cNvSpPr/>
          <p:nvPr/>
        </p:nvSpPr>
        <p:spPr>
          <a:xfrm>
            <a:off x="4777200" y="307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文本框 33"/>
          <p:cNvSpPr/>
          <p:nvPr/>
        </p:nvSpPr>
        <p:spPr>
          <a:xfrm>
            <a:off x="3909240" y="216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矩形 46"/>
          <p:cNvSpPr/>
          <p:nvPr/>
        </p:nvSpPr>
        <p:spPr>
          <a:xfrm>
            <a:off x="639720" y="487188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矩形 47"/>
          <p:cNvSpPr/>
          <p:nvPr/>
        </p:nvSpPr>
        <p:spPr>
          <a:xfrm>
            <a:off x="1360440" y="487188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矩形 48"/>
          <p:cNvSpPr/>
          <p:nvPr/>
        </p:nvSpPr>
        <p:spPr>
          <a:xfrm>
            <a:off x="1360440" y="4148280"/>
            <a:ext cx="720720" cy="72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文本框 50"/>
          <p:cNvSpPr/>
          <p:nvPr/>
        </p:nvSpPr>
        <p:spPr>
          <a:xfrm>
            <a:off x="292320" y="5219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文本框 51"/>
          <p:cNvSpPr/>
          <p:nvPr/>
        </p:nvSpPr>
        <p:spPr>
          <a:xfrm>
            <a:off x="1497240" y="5176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任意多边形 52"/>
          <p:cNvSpPr/>
          <p:nvPr/>
        </p:nvSpPr>
        <p:spPr>
          <a:xfrm>
            <a:off x="636480" y="4172040"/>
            <a:ext cx="1416240" cy="1404720"/>
          </a:xfrm>
          <a:custGeom>
            <a:avLst/>
            <a:gdLst/>
            <a:ahLst/>
            <a:rect l="l" t="t" r="r" b="b"/>
            <a:pathLst>
              <a:path w="1416676" h="1403798">
                <a:moveTo>
                  <a:pt x="0" y="1403798"/>
                </a:moveTo>
                <a:lnTo>
                  <a:pt x="721217" y="1403798"/>
                </a:lnTo>
                <a:lnTo>
                  <a:pt x="1416676" y="0"/>
                </a:lnTo>
                <a:lnTo>
                  <a:pt x="0" y="140379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文本框 53"/>
          <p:cNvSpPr/>
          <p:nvPr/>
        </p:nvSpPr>
        <p:spPr>
          <a:xfrm>
            <a:off x="1953360" y="3360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矩形 54"/>
          <p:cNvSpPr/>
          <p:nvPr/>
        </p:nvSpPr>
        <p:spPr>
          <a:xfrm>
            <a:off x="3357720" y="481644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矩形 55"/>
          <p:cNvSpPr/>
          <p:nvPr/>
        </p:nvSpPr>
        <p:spPr>
          <a:xfrm>
            <a:off x="4076640" y="481644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矩形 56"/>
          <p:cNvSpPr/>
          <p:nvPr/>
        </p:nvSpPr>
        <p:spPr>
          <a:xfrm>
            <a:off x="4076640" y="409248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文本框 57"/>
          <p:cNvSpPr/>
          <p:nvPr/>
        </p:nvSpPr>
        <p:spPr>
          <a:xfrm>
            <a:off x="4214160" y="512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任意多边形 58"/>
          <p:cNvSpPr/>
          <p:nvPr/>
        </p:nvSpPr>
        <p:spPr>
          <a:xfrm>
            <a:off x="2657520" y="4116240"/>
            <a:ext cx="2112840" cy="1417680"/>
          </a:xfrm>
          <a:custGeom>
            <a:avLst/>
            <a:gdLst/>
            <a:ahLst/>
            <a:rect l="l" t="t" r="r" b="b"/>
            <a:pathLst>
              <a:path w="2112135" h="1416677">
                <a:moveTo>
                  <a:pt x="0" y="1416677"/>
                </a:moveTo>
                <a:lnTo>
                  <a:pt x="1416676" y="1403798"/>
                </a:lnTo>
                <a:lnTo>
                  <a:pt x="2112135" y="0"/>
                </a:lnTo>
                <a:lnTo>
                  <a:pt x="0" y="1416677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矩形 59"/>
          <p:cNvSpPr/>
          <p:nvPr/>
        </p:nvSpPr>
        <p:spPr>
          <a:xfrm>
            <a:off x="2627280" y="4816440"/>
            <a:ext cx="72072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文本框 60"/>
          <p:cNvSpPr/>
          <p:nvPr/>
        </p:nvSpPr>
        <p:spPr>
          <a:xfrm>
            <a:off x="4755600" y="389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文本框 61"/>
          <p:cNvSpPr/>
          <p:nvPr/>
        </p:nvSpPr>
        <p:spPr>
          <a:xfrm>
            <a:off x="2268000" y="523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文本框 62"/>
          <p:cNvSpPr/>
          <p:nvPr/>
        </p:nvSpPr>
        <p:spPr>
          <a:xfrm>
            <a:off x="1150920" y="3554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文本框 63"/>
          <p:cNvSpPr/>
          <p:nvPr/>
        </p:nvSpPr>
        <p:spPr>
          <a:xfrm>
            <a:off x="3517920" y="35402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文本框 64"/>
          <p:cNvSpPr/>
          <p:nvPr/>
        </p:nvSpPr>
        <p:spPr>
          <a:xfrm>
            <a:off x="1195560" y="561492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文本框 65"/>
          <p:cNvSpPr/>
          <p:nvPr/>
        </p:nvSpPr>
        <p:spPr>
          <a:xfrm>
            <a:off x="3559320" y="554040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03:00:23Z</dcterms:created>
  <dc:creator>李子龙</dc:creator>
  <dc:description/>
  <cp:keywords>数学;代数;平面几何;立体几何;函数;难题;比较</cp:keywords>
  <dc:language>en-US</dc:language>
  <cp:lastModifiedBy>李子龙</cp:lastModifiedBy>
  <dcterms:modified xsi:type="dcterms:W3CDTF">2014-10-19T04:51:05Z</dcterms:modified>
  <cp:revision>13</cp:revision>
  <dc:subject/>
  <dc:title>数学基础训练部分代表性题目</dc:title>
</cp:coreProperties>
</file>